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96C-6D41-4382-802F-2D088847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14D5-37CF-4B46-8994-F5336EC1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55B-A675-40B3-8FE7-4055BE1F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6D6-8CCE-40A9-AD2D-9539F807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3F5-1772-4AEC-85AD-CD9522A6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8D3-8083-43AA-B7C8-34C4F2EF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44A-7283-4A40-9EB2-0E6A8A29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287-A374-4CEA-B3D4-0CD62F1E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124-BD1D-442E-B1CC-FA1B5708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0E9-1540-4D84-BE67-B177EBFB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D38-3B2C-4618-A041-8D10C69F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35F-474E-4297-9A8E-D8D5576F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CBA8-6CF9-40DC-BA69-ED2C5AB9C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Me llamo____________ </a:t>
            </a: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     Clase 6NH La fecha es el 21 de mayo del 20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5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Miras fútbol en la televis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el the parts of the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3124080"/>
            <a:ext cx="3174840" cy="373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335268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5486400"/>
            <a:ext cx="22860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6477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5791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971800" y="47242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715000" y="41144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81952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791320" y="49525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5410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3505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4724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4572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6248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3886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56228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ribe las respuestas de l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Historieta 3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5 (1-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un compañero,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5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Mínimo 5 preguntas y respuestas; escriban en sus cuader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65760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T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at you have all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SITO 5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REA 5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n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 (1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REA 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1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3:46:55Z</dcterms:created>
  <dc:creator>Helen Zumaeta</dc:creator>
  <dc:description/>
  <dc:language>en-US</dc:language>
  <cp:lastModifiedBy>Helen Zumaeta</cp:lastModifiedBy>
  <dcterms:modified xsi:type="dcterms:W3CDTF">2012-05-21T03:51:05Z</dcterms:modified>
  <cp:revision>23</cp:revision>
  <dc:subject/>
  <dc:title>Me llamo____________  Clase 7 IL La fecha es el 4 de noviembre del 2010</dc:title>
</cp:coreProperties>
</file>